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A90-6981-4BF1-873F-E619B24F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C33-AB68-4007-8F01-038A20B9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022-1356-46CA-99B8-B942CA11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339-2B0B-4C53-95D2-C7358F3F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32B1-2E3F-4EB8-95BF-08A9B422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1DB9-E866-4110-8275-401DD55C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3825-52CD-4F3A-96E5-91BBA900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AC6F-FBA5-4CE9-9753-5D6ACE53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54F4-4095-4024-BF0C-CB634231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B1D5-9746-4B5B-8545-EF81C659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68DB-C895-4F1F-A4AF-6A818951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704-6234-4C10-A90B-CE80C8E9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8E29-671D-4B4C-9F40-72D54584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F71F-662A-4A87-B113-4FCDDA37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6743-FEE4-4794-AA29-497AB503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97E0-E34E-4085-B033-06325CF9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3C16-0926-4D54-A394-FD66257C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2506-6542-4B54-9E8D-928FC330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7AB4-3153-4BCB-9DCA-5266DBE2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CA7B-4EC0-4F78-AF5C-7FF357CC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E9B5-73F7-4640-AB1A-4858B5B1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DAEE9-4163-4146-A5C3-DAF53540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239-1386-4169-A1E8-C9C100E3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2218-EC65-4607-8064-9F9BF4DD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FE292-3B80-4723-9E76-26A93AF4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838F-1B28-4797-9D7A-795407F8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27C02-1993-4764-B694-B42C6447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C5466-7EFE-4E6D-98B6-CE61747A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00F77-6D16-4B00-906B-C67A8503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A207-2F57-4666-8D66-60BA7B8D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BAD3-43F3-4EC7-B468-562BA4AA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EF4D8-97B5-44F1-94C4-C0323C3C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8D47A-C23A-458A-88B7-7EBD8B93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B0A-1107-411E-B112-288FBC15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F0A58-5B8A-4666-B521-0C2981F0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072F6-AEA0-4694-94D7-E5614CE8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1FF5-0DBE-4C97-AA69-E77F872B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EE9B-30D7-4EC4-933F-40A06174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B47E7-81FC-42D2-BE5A-675525AF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7CF6-DEA8-4357-9AC9-CBB639C6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455A1-B68D-4827-8AFE-A5886D4E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36CEC-0A10-461A-B5D5-18461A8B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AF656-B607-4C07-961A-AFA7EC88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97A99-25FC-41A6-BB50-129B8F34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10C-D152-4298-9927-296B4FE2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78CDB-F261-4F70-87F7-759A9FDD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02AF2-A03E-4F57-806C-C60248D6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8A091-5C14-4EEE-8A4C-98F8FADD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D3801-8CAD-487C-A8D2-EBD8573D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8282B-A525-4131-87B4-5FAC73D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9D199-BD8B-4509-AABB-030F2C2B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354D4-CF5C-428E-BCE0-921ED4FE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496E3-AE9F-4D76-B25B-F6831215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A5D5E-F6FD-4687-B615-1B60AE12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C28D5-E0C4-4592-8062-2C89DC95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14A-10BE-4BA0-A396-63225A18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19B43-247E-425A-850A-962469A8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62C-3FF7-442E-A7DE-70495DAD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0C6-AB57-470C-BC90-DA4E2AFF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F57-165E-468F-B818-41014FB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6230-BEC8-4BBB-895F-2EE9968B93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8F20-2CB4-46C7-AE3A-82891260E34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33DC-3603-4E71-96B2-5E30D91DC0E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9EF7-AD57-4608-A918-001385F5DCF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C86F-0918-468D-B717-81018B3D54B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Poetry of the Peop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lla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Reliques of Ancient English Poet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a collection of ballads gathered by Thomas Percy and published in 1765; inspired by oth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jects of ballads – the everyday life of common fol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ten tragic – disappointed love, jealousy, revenge, sudden disaster, deeds of adven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pernatural ev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nsational or sordid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lla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song or songlike poem that tells a story in a regular pattern of rhythm and rhyme and uses simple, direct languag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e from an oral tradi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strict rules dictating their for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istics of balla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mple and direc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ttle or no backgrou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ory developed largely through dialogue – question and answer forma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frain – repetition of the last line or tw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cremental repetition – repetition of previous lines with slight vari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usical – meant to be su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train – 4 lin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eter – iambi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yllables –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8 in the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nd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lin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6 in th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nd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lin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3:38:02Z</dcterms:created>
  <dc:creator>pcoles</dc:creator>
  <dc:description/>
  <dc:language>en-US</dc:language>
  <cp:lastModifiedBy>pcoles</cp:lastModifiedBy>
  <dcterms:modified xsi:type="dcterms:W3CDTF">2009-01-29T00:00:48Z</dcterms:modified>
  <cp:revision>3</cp:revision>
  <dc:subject/>
  <dc:title>Ballads</dc:title>
</cp:coreProperties>
</file>